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95A-3034-49BC-91FC-66EF6EE3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889-FD00-4304-ADBB-46E4DC2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CA4-A0CC-4EA5-8978-F677C29B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331-B17C-4C1D-9BB0-92965556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14E6-C319-4842-A7B4-4EE9086E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ED73-4A4C-46BA-8908-B31FA4BC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D824-335A-42E5-986C-F4A4BCD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ECFB-AA94-4BED-99E3-21379238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61B-407C-4E08-9845-B1425B5B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96A7-E13F-4F81-BF72-01FECB1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596-6734-41AF-8678-532A51B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70A-0CE0-4018-9C14-9C6B7524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BF2F-444D-4737-8962-FD90F3F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AF1-364E-418E-B3BC-46BF1DF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BD4-3EBB-44CC-9B6A-FBD9E76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8F73-D2D1-4780-BD2E-B4C143A7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AAC8-0B91-415B-8958-3D1AD3D0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E32-D9C2-4739-93DA-FEED2DC2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2AD-EC6A-4FB3-9388-7972FD9A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E8A-A517-4C6C-8007-57C2529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433-4816-4118-A0EF-FECAB923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8B6-664E-43D4-A008-F938B15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DB6-42AF-456D-94D8-31379F7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197-1401-4AB1-8515-1D8032F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33C-241D-4B27-B32B-B6DE99A5FFC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F64B-DE16-42D3-B0F4-E1CA7DC539B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Adobe Garamond Pro Bold"/>
              </a:rPr>
              <a:t>Mohsin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9280" y="2550960"/>
            <a:ext cx="748512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10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:: footbal, crick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: arts,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pakistan" descr=""/>
          <p:cNvPicPr/>
          <p:nvPr/>
        </p:nvPicPr>
        <p:blipFill>
          <a:blip r:embed="rId2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9:42Z</dcterms:modified>
  <cp:revision>29</cp:revision>
  <dc:subject/>
  <dc:title>MR. HAROON </dc:title>
</cp:coreProperties>
</file>